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6321-9E62-448C-A626-1CADADE5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E775-032E-43BF-B427-D6D61C65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25CD-429C-4738-B5B0-A49ACCAC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6108-90C0-4796-8762-054DE6C9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778-A6FC-4292-BDF7-FB5ADB4D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5161-D65D-4B80-AA8E-86A97521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1E7-4410-4AD3-A53A-EFB5090C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3BB3-C202-46A9-9313-5205545F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471-B93F-4CE0-B97E-62B9FD1C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416-E1BD-4A12-B424-D09E8752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0C33-8DCE-48D0-A8CA-EA455E87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3DA7-662E-4FD5-B07D-A7BA8190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4D2E-C35F-4D7B-AF95-6A235EBEA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038480" y="2601000"/>
            <a:ext cx="5088600" cy="4230360"/>
            <a:chOff x="4038480" y="2601000"/>
            <a:chExt cx="5088600" cy="4230360"/>
          </a:xfrm>
        </p:grpSpPr>
        <p:sp>
          <p:nvSpPr>
            <p:cNvPr id="6" name=""/>
            <p:cNvSpPr/>
            <p:nvPr/>
          </p:nvSpPr>
          <p:spPr>
            <a:xfrm>
              <a:off x="5770800" y="3135960"/>
              <a:ext cx="2786400" cy="203076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30240" y="613260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30240" y="613260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851360" y="5488920"/>
              <a:ext cx="3251160" cy="134244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851360" y="5488920"/>
              <a:ext cx="3251160" cy="134244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846560" y="6033240"/>
              <a:ext cx="1280160" cy="7981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846560" y="6033240"/>
              <a:ext cx="1280160" cy="7981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02880" y="3733920"/>
              <a:ext cx="1023840" cy="244440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02880" y="3733920"/>
              <a:ext cx="1023840" cy="244440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995000" y="260100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995000" y="260100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00680" y="358956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79600" y="404676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435360" y="455724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197400" y="509976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782320" y="623268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038480" y="5288040"/>
              <a:ext cx="699120" cy="22212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770800" y="3135960"/>
              <a:ext cx="2786400" cy="203076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430240" y="613260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430240" y="6132600"/>
              <a:ext cx="132120" cy="6987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51360" y="5488920"/>
              <a:ext cx="3251160" cy="134244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851360" y="5488920"/>
              <a:ext cx="3251160" cy="134244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846560" y="6033240"/>
              <a:ext cx="1280160" cy="7981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846560" y="6033240"/>
              <a:ext cx="1280160" cy="7981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102880" y="3733920"/>
              <a:ext cx="1023840" cy="244440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102880" y="3733920"/>
              <a:ext cx="1023840" cy="244440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995000" y="260100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995000" y="2601000"/>
              <a:ext cx="4132080" cy="341964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600680" y="3589560"/>
              <a:ext cx="644040" cy="21276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879600" y="4046760"/>
              <a:ext cx="1061640" cy="3002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435360" y="4557240"/>
              <a:ext cx="1194480" cy="3445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6197400" y="5099760"/>
              <a:ext cx="48240" cy="1188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782320" y="6232680"/>
              <a:ext cx="538920" cy="2541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038480" y="5288040"/>
              <a:ext cx="699120" cy="22212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486080" cy="46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Tech Global Services Corpor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ussels, Belgium Branch Establish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March 2008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ATO Organizational &amp; Acquisition Structure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9480"/>
            <a:ext cx="9144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33520" y="1295280"/>
            <a:ext cx="7772400" cy="5053680"/>
            <a:chOff x="533520" y="1295280"/>
            <a:chExt cx="7772400" cy="5053680"/>
          </a:xfrm>
        </p:grpSpPr>
        <p:cxnSp>
          <p:nvCxnSpPr>
            <p:cNvPr id="82" name="_s21533"/>
            <p:cNvCxnSpPr>
              <a:stCxn id="83" idx="0"/>
              <a:endCxn id="84" idx="2"/>
            </p:cNvCxnSpPr>
            <p:nvPr/>
          </p:nvCxnSpPr>
          <p:spPr>
            <a:xfrm flipV="1" rot="16200000">
              <a:off x="6314760" y="2010960"/>
              <a:ext cx="1009800" cy="1600920"/>
            </a:xfrm>
            <a:prstGeom prst="bentConnector3">
              <a:avLst>
                <a:gd name="adj1" fmla="val 113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21532"/>
            <p:cNvCxnSpPr>
              <a:stCxn id="86" idx="0"/>
              <a:endCxn id="84" idx="2"/>
            </p:cNvCxnSpPr>
            <p:nvPr/>
          </p:nvCxnSpPr>
          <p:spPr>
            <a:xfrm flipV="1">
              <a:off x="6019920" y="2306520"/>
              <a:ext cx="2160" cy="100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1515"/>
            <p:cNvCxnSpPr>
              <a:stCxn id="88" idx="0"/>
              <a:endCxn id="89" idx="2"/>
            </p:cNvCxnSpPr>
            <p:nvPr/>
          </p:nvCxnSpPr>
          <p:spPr>
            <a:xfrm flipV="1" rot="16200000">
              <a:off x="5515560" y="3231720"/>
              <a:ext cx="1008720" cy="3201120"/>
            </a:xfrm>
            <a:prstGeom prst="bentConnector3">
              <a:avLst>
                <a:gd name="adj1" fmla="val 113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21516"/>
            <p:cNvCxnSpPr>
              <a:stCxn id="91" idx="0"/>
              <a:endCxn id="89" idx="2"/>
            </p:cNvCxnSpPr>
            <p:nvPr/>
          </p:nvCxnSpPr>
          <p:spPr>
            <a:xfrm flipV="1" rot="16200000">
              <a:off x="4715280" y="4032000"/>
              <a:ext cx="1008720" cy="1600920"/>
            </a:xfrm>
            <a:prstGeom prst="bentConnector3">
              <a:avLst>
                <a:gd name="adj1" fmla="val 113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21517"/>
            <p:cNvCxnSpPr>
              <a:stCxn id="93" idx="0"/>
              <a:endCxn id="89" idx="2"/>
            </p:cNvCxnSpPr>
            <p:nvPr/>
          </p:nvCxnSpPr>
          <p:spPr>
            <a:xfrm flipV="1">
              <a:off x="4419720" y="4328280"/>
              <a:ext cx="2160" cy="100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21518"/>
            <p:cNvCxnSpPr>
              <a:stCxn id="95" idx="0"/>
              <a:endCxn id="89" idx="2"/>
            </p:cNvCxnSpPr>
            <p:nvPr/>
          </p:nvCxnSpPr>
          <p:spPr>
            <a:xfrm flipH="1" flipV="1" rot="5400000">
              <a:off x="3115080" y="4032000"/>
              <a:ext cx="1008720" cy="1600920"/>
            </a:xfrm>
            <a:prstGeom prst="bentConnector3">
              <a:avLst>
                <a:gd name="adj1" fmla="val 113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1519"/>
            <p:cNvCxnSpPr>
              <a:stCxn id="97" idx="0"/>
              <a:endCxn id="89" idx="2"/>
            </p:cNvCxnSpPr>
            <p:nvPr/>
          </p:nvCxnSpPr>
          <p:spPr>
            <a:xfrm flipH="1" flipV="1" rot="5400000">
              <a:off x="2315160" y="3232080"/>
              <a:ext cx="1008720" cy="3201120"/>
            </a:xfrm>
            <a:prstGeom prst="bentConnector3">
              <a:avLst>
                <a:gd name="adj1" fmla="val 113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21521"/>
            <p:cNvCxnSpPr>
              <a:stCxn id="89" idx="0"/>
              <a:endCxn id="84" idx="2"/>
            </p:cNvCxnSpPr>
            <p:nvPr/>
          </p:nvCxnSpPr>
          <p:spPr>
            <a:xfrm flipH="1" flipV="1" rot="5400000">
              <a:off x="4714920" y="2010960"/>
              <a:ext cx="1009800" cy="1600920"/>
            </a:xfrm>
            <a:prstGeom prst="bentConnector3">
              <a:avLst>
                <a:gd name="adj1" fmla="val 113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21522"/>
            <p:cNvSpPr/>
            <p:nvPr/>
          </p:nvSpPr>
          <p:spPr>
            <a:xfrm>
              <a:off x="5334120" y="129528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ort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tlan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unc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1523"/>
            <p:cNvSpPr/>
            <p:nvPr/>
          </p:nvSpPr>
          <p:spPr>
            <a:xfrm>
              <a:off x="3733920" y="331668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TO H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russels, 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1525"/>
            <p:cNvSpPr/>
            <p:nvPr/>
          </p:nvSpPr>
          <p:spPr>
            <a:xfrm>
              <a:off x="533520" y="533700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M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1526"/>
            <p:cNvSpPr/>
            <p:nvPr/>
          </p:nvSpPr>
          <p:spPr>
            <a:xfrm>
              <a:off x="2133720" y="533700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C3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1527"/>
            <p:cNvSpPr/>
            <p:nvPr/>
          </p:nvSpPr>
          <p:spPr>
            <a:xfrm>
              <a:off x="3733920" y="533700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C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1528"/>
            <p:cNvSpPr/>
            <p:nvPr/>
          </p:nvSpPr>
          <p:spPr>
            <a:xfrm>
              <a:off x="5334120" y="5337000"/>
              <a:ext cx="1371600" cy="10090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C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1529"/>
            <p:cNvSpPr/>
            <p:nvPr/>
          </p:nvSpPr>
          <p:spPr>
            <a:xfrm>
              <a:off x="6934320" y="533700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st N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1530"/>
            <p:cNvSpPr/>
            <p:nvPr/>
          </p:nvSpPr>
          <p:spPr>
            <a:xfrm>
              <a:off x="5334120" y="331668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1531"/>
            <p:cNvSpPr/>
            <p:nvPr/>
          </p:nvSpPr>
          <p:spPr>
            <a:xfrm>
              <a:off x="6934320" y="3316680"/>
              <a:ext cx="1371600" cy="10119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5400"/>
            <a:ext cx="8734320" cy="70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O Strategic Comman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57200" y="1612800"/>
            <a:ext cx="8228520" cy="2349360"/>
            <a:chOff x="457200" y="1612800"/>
            <a:chExt cx="8228520" cy="2349360"/>
          </a:xfrm>
        </p:grpSpPr>
        <p:cxnSp>
          <p:nvCxnSpPr>
            <p:cNvPr id="101" name="_s22536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532120" y="2116800"/>
              <a:ext cx="294120" cy="2221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22537"/>
            <p:cNvCxnSpPr>
              <a:stCxn id="105" idx="0"/>
              <a:endCxn id="103" idx="2"/>
            </p:cNvCxnSpPr>
            <p:nvPr/>
          </p:nvCxnSpPr>
          <p:spPr>
            <a:xfrm flipH="1" flipV="1" rot="5400000">
              <a:off x="3315960" y="2121480"/>
              <a:ext cx="294120" cy="2212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22538"/>
            <p:cNvCxnSpPr>
              <a:stCxn id="103" idx="0"/>
              <a:endCxn id="107" idx="2"/>
            </p:cNvCxnSpPr>
            <p:nvPr/>
          </p:nvCxnSpPr>
          <p:spPr>
            <a:xfrm flipV="1">
              <a:off x="4568760" y="2199240"/>
              <a:ext cx="5400" cy="294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2539"/>
            <p:cNvSpPr/>
            <p:nvPr/>
          </p:nvSpPr>
          <p:spPr>
            <a:xfrm>
              <a:off x="2669040" y="1612800"/>
              <a:ext cx="3799800" cy="5871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North Atlantic Counci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2540"/>
            <p:cNvSpPr/>
            <p:nvPr/>
          </p:nvSpPr>
          <p:spPr>
            <a:xfrm>
              <a:off x="2669040" y="2493720"/>
              <a:ext cx="3799800" cy="5871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T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ACE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ns, Belgi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2541"/>
            <p:cNvSpPr/>
            <p:nvPr/>
          </p:nvSpPr>
          <p:spPr>
            <a:xfrm>
              <a:off x="457200" y="3375000"/>
              <a:ext cx="3799800" cy="5871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Allied Command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Operations (ACO) Mons, Belgiu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2542"/>
            <p:cNvSpPr/>
            <p:nvPr/>
          </p:nvSpPr>
          <p:spPr>
            <a:xfrm>
              <a:off x="4890240" y="3375000"/>
              <a:ext cx="3795480" cy="58716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Allied Command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Transformation (ACT)  -  Norfolk, V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57200" y="4114800"/>
            <a:ext cx="3809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t Force Command AFNORTH (N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ghanistan (ISAF) 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t Force Command AFSOUTH (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aq (NTM-I) 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4114800"/>
            <a:ext cx="4114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t Warfare Training Center (JWTC)  (PL) 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t Warfare Center  (JWC) (NO) 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t Analysis Lessons Learned Center (JALLC) (PO) 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8720" y="5943600"/>
            <a:ext cx="34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ManTech h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455400"/>
            <a:ext cx="8962920" cy="70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O Acquisition Organiza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7200" y="1295280"/>
            <a:ext cx="8229600" cy="3796920"/>
            <a:chOff x="457200" y="1295280"/>
            <a:chExt cx="8229600" cy="3796920"/>
          </a:xfrm>
        </p:grpSpPr>
        <p:cxnSp>
          <p:nvCxnSpPr>
            <p:cNvPr id="113" name="_s23559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3712320" y="2233440"/>
              <a:ext cx="345240" cy="1919880"/>
            </a:xfrm>
            <a:prstGeom prst="bentConnector3">
              <a:avLst>
                <a:gd name="adj1" fmla="val 329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3560"/>
            <p:cNvCxnSpPr>
              <a:stCxn id="117" idx="0"/>
              <a:endCxn id="115" idx="2"/>
            </p:cNvCxnSpPr>
            <p:nvPr/>
          </p:nvCxnSpPr>
          <p:spPr>
            <a:xfrm flipV="1" rot="16200000">
              <a:off x="3072600" y="2873160"/>
              <a:ext cx="345240" cy="640440"/>
            </a:xfrm>
            <a:prstGeom prst="bentConnector3">
              <a:avLst>
                <a:gd name="adj1" fmla="val 329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3561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2433240" y="2873160"/>
              <a:ext cx="345240" cy="640440"/>
            </a:xfrm>
            <a:prstGeom prst="bentConnector3">
              <a:avLst>
                <a:gd name="adj1" fmla="val 329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23562"/>
            <p:cNvCxnSpPr>
              <a:stCxn id="121" idx="0"/>
              <a:endCxn id="115" idx="2"/>
            </p:cNvCxnSpPr>
            <p:nvPr/>
          </p:nvCxnSpPr>
          <p:spPr>
            <a:xfrm flipH="1" flipV="1" rot="5400000">
              <a:off x="1793520" y="2233440"/>
              <a:ext cx="345240" cy="1919880"/>
            </a:xfrm>
            <a:prstGeom prst="bentConnector3">
              <a:avLst>
                <a:gd name="adj1" fmla="val 329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3563"/>
            <p:cNvCxnSpPr>
              <a:stCxn id="115" idx="3"/>
              <a:endCxn id="123" idx="2"/>
            </p:cNvCxnSpPr>
            <p:nvPr/>
          </p:nvCxnSpPr>
          <p:spPr>
            <a:xfrm flipV="1">
              <a:off x="3473280" y="1985760"/>
              <a:ext cx="2106000" cy="691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3564"/>
            <p:cNvCxnSpPr>
              <a:stCxn id="125" idx="0"/>
              <a:endCxn id="123" idx="2"/>
            </p:cNvCxnSpPr>
            <p:nvPr/>
          </p:nvCxnSpPr>
          <p:spPr>
            <a:xfrm flipV="1" rot="16200000">
              <a:off x="5649840" y="1913400"/>
              <a:ext cx="2415960" cy="2559600"/>
            </a:xfrm>
            <a:prstGeom prst="bentConnector3">
              <a:avLst>
                <a:gd name="adj1" fmla="val 47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3565"/>
            <p:cNvCxnSpPr>
              <a:stCxn id="127" idx="0"/>
              <a:endCxn id="123" idx="2"/>
            </p:cNvCxnSpPr>
            <p:nvPr/>
          </p:nvCxnSpPr>
          <p:spPr>
            <a:xfrm flipV="1" rot="16200000">
              <a:off x="5009400" y="2553840"/>
              <a:ext cx="2415960" cy="1278720"/>
            </a:xfrm>
            <a:prstGeom prst="bentConnector3">
              <a:avLst>
                <a:gd name="adj1" fmla="val 47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3566"/>
            <p:cNvCxnSpPr>
              <a:stCxn id="129" idx="0"/>
              <a:endCxn id="123" idx="2"/>
            </p:cNvCxnSpPr>
            <p:nvPr/>
          </p:nvCxnSpPr>
          <p:spPr>
            <a:xfrm flipH="1" flipV="1" rot="5400000">
              <a:off x="4369680" y="3192120"/>
              <a:ext cx="2415960" cy="2520"/>
            </a:xfrm>
            <a:prstGeom prst="bentConnector3">
              <a:avLst>
                <a:gd name="adj1" fmla="val 47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3567"/>
            <p:cNvCxnSpPr>
              <a:stCxn id="131" idx="0"/>
              <a:endCxn id="123" idx="2"/>
            </p:cNvCxnSpPr>
            <p:nvPr/>
          </p:nvCxnSpPr>
          <p:spPr>
            <a:xfrm flipH="1" flipV="1" rot="5400000">
              <a:off x="3729240" y="2551680"/>
              <a:ext cx="2415960" cy="1283400"/>
            </a:xfrm>
            <a:prstGeom prst="bentConnector3">
              <a:avLst>
                <a:gd name="adj1" fmla="val 47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3568"/>
            <p:cNvCxnSpPr>
              <a:stCxn id="133" idx="0"/>
              <a:endCxn id="123" idx="2"/>
            </p:cNvCxnSpPr>
            <p:nvPr/>
          </p:nvCxnSpPr>
          <p:spPr>
            <a:xfrm flipH="1" flipV="1" rot="5400000">
              <a:off x="3089520" y="1911960"/>
              <a:ext cx="2415960" cy="2563200"/>
            </a:xfrm>
            <a:prstGeom prst="bentConnector3">
              <a:avLst>
                <a:gd name="adj1" fmla="val 47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_s23569"/>
            <p:cNvSpPr/>
            <p:nvPr/>
          </p:nvSpPr>
          <p:spPr>
            <a:xfrm>
              <a:off x="5029200" y="1295280"/>
              <a:ext cx="1096920" cy="69084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TO H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3570"/>
            <p:cNvSpPr/>
            <p:nvPr/>
          </p:nvSpPr>
          <p:spPr>
            <a:xfrm>
              <a:off x="2467080" y="4401720"/>
              <a:ext cx="1096920" cy="6904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M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3571"/>
            <p:cNvSpPr/>
            <p:nvPr/>
          </p:nvSpPr>
          <p:spPr>
            <a:xfrm>
              <a:off x="7588080" y="4401720"/>
              <a:ext cx="1098720" cy="6904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3572"/>
            <p:cNvSpPr/>
            <p:nvPr/>
          </p:nvSpPr>
          <p:spPr>
            <a:xfrm>
              <a:off x="6307200" y="4401720"/>
              <a:ext cx="1098360" cy="6904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C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3573"/>
            <p:cNvSpPr/>
            <p:nvPr/>
          </p:nvSpPr>
          <p:spPr>
            <a:xfrm>
              <a:off x="5027760" y="4401720"/>
              <a:ext cx="1096920" cy="6904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C3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3574"/>
            <p:cNvSpPr/>
            <p:nvPr/>
          </p:nvSpPr>
          <p:spPr>
            <a:xfrm>
              <a:off x="3746520" y="4401720"/>
              <a:ext cx="1098360" cy="690480"/>
            </a:xfrm>
            <a:prstGeom prst="roundRect">
              <a:avLst>
                <a:gd name="adj" fmla="val 16667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AC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3575"/>
            <p:cNvSpPr/>
            <p:nvPr/>
          </p:nvSpPr>
          <p:spPr>
            <a:xfrm>
              <a:off x="2378160" y="2330640"/>
              <a:ext cx="1095120" cy="69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mitte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3576"/>
            <p:cNvSpPr/>
            <p:nvPr/>
          </p:nvSpPr>
          <p:spPr>
            <a:xfrm>
              <a:off x="457200" y="3366360"/>
              <a:ext cx="1096920" cy="690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R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3577"/>
            <p:cNvSpPr/>
            <p:nvPr/>
          </p:nvSpPr>
          <p:spPr>
            <a:xfrm>
              <a:off x="1736640" y="3366360"/>
              <a:ext cx="1096920" cy="687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23578"/>
            <p:cNvSpPr/>
            <p:nvPr/>
          </p:nvSpPr>
          <p:spPr>
            <a:xfrm>
              <a:off x="3016080" y="3366360"/>
              <a:ext cx="1097280" cy="687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B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3579"/>
            <p:cNvSpPr/>
            <p:nvPr/>
          </p:nvSpPr>
          <p:spPr>
            <a:xfrm>
              <a:off x="4295880" y="3366360"/>
              <a:ext cx="1098360" cy="687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G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095880" y="51814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M-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518148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a 7 Contr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VTC (ISA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5181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IS Contr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181480"/>
            <a:ext cx="1371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M-I (NCS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ical Support Contract  (NCS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dahar AF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455400"/>
            <a:ext cx="8810640" cy="70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ing Business with NATO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5600" y="1385640"/>
            <a:ext cx="8726400" cy="46699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TO works through Committe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Financial Committees: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frastructure Committee  (IC) – NATO Security Investment Programme (NSIP)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litary Budget Committee (MBC) – Admin., suppor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Committees Work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TO National Delegations staff Committe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ittees make decisions, authorise projec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ittees procure through Agencies and Command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TO Delegations must nominate companies for them to be eligible to bi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Bs – Case by case nomination  &gt;$5M (Euros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As – One blanket nomination 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43280" y="396252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54440" y="400860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3809880"/>
            <a:ext cx="0" cy="165600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3080" y="400860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6120" y="1484280"/>
            <a:ext cx="2522520" cy="609480"/>
          </a:xfrm>
          <a:prstGeom prst="wedgeRectCallout">
            <a:avLst>
              <a:gd name="adj1" fmla="val -69004"/>
              <a:gd name="adj2" fmla="val 3710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litar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34640" y="5359320"/>
            <a:ext cx="8612280" cy="801000"/>
            <a:chOff x="134640" y="5359320"/>
            <a:chExt cx="8612280" cy="801000"/>
          </a:xfrm>
        </p:grpSpPr>
        <p:grpSp>
          <p:nvGrpSpPr>
            <p:cNvPr id="146" name=""/>
            <p:cNvGrpSpPr/>
            <p:nvPr/>
          </p:nvGrpSpPr>
          <p:grpSpPr>
            <a:xfrm>
              <a:off x="282600" y="5359320"/>
              <a:ext cx="8292960" cy="336600"/>
              <a:chOff x="282600" y="5359320"/>
              <a:chExt cx="8292960" cy="336600"/>
            </a:xfrm>
          </p:grpSpPr>
          <p:sp>
            <p:nvSpPr>
              <p:cNvPr id="147" name=""/>
              <p:cNvSpPr/>
              <p:nvPr/>
            </p:nvSpPr>
            <p:spPr>
              <a:xfrm>
                <a:off x="282600" y="5375160"/>
                <a:ext cx="8292960" cy="304920"/>
              </a:xfrm>
              <a:prstGeom prst="rect">
                <a:avLst/>
              </a:prstGeom>
              <a:gradFill rotWithShape="0">
                <a:gsLst>
                  <a:gs pos="0">
                    <a:srgbClr val="ff00ff"/>
                  </a:gs>
                  <a:gs pos="50000">
                    <a:srgbClr val="ffffff"/>
                  </a:gs>
                  <a:gs pos="100000">
                    <a:srgbClr val="ff00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336920" y="5359320"/>
                <a:ext cx="18432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134640" y="5523120"/>
              <a:ext cx="8612280" cy="637200"/>
              <a:chOff x="134640" y="5523120"/>
              <a:chExt cx="8612280" cy="6372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304560" y="5523120"/>
                <a:ext cx="8254800" cy="330120"/>
                <a:chOff x="304560" y="5523120"/>
                <a:chExt cx="8254800" cy="3301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0456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28600" y="5523120"/>
                  <a:ext cx="12960" cy="330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38000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55936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02092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48248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66184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20064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4640" y="5824440"/>
                <a:ext cx="8612280" cy="335880"/>
                <a:chOff x="134640" y="5824440"/>
                <a:chExt cx="8612280" cy="3358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34640" y="5824440"/>
                  <a:ext cx="2977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25676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43792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78728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95584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60612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14960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33040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8" name=""/>
          <p:cNvSpPr/>
          <p:nvPr/>
        </p:nvSpPr>
        <p:spPr>
          <a:xfrm>
            <a:off x="1711440" y="2892600"/>
            <a:ext cx="2311200" cy="633240"/>
          </a:xfrm>
          <a:prstGeom prst="wedgeRectCallout">
            <a:avLst>
              <a:gd name="adj1" fmla="val -754"/>
              <a:gd name="adj2" fmla="val 12969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litar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2209680"/>
            <a:ext cx="2522520" cy="452520"/>
          </a:xfrm>
          <a:prstGeom prst="wedgeRectCallout">
            <a:avLst>
              <a:gd name="adj1" fmla="val 8337"/>
              <a:gd name="adj2" fmla="val 34579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Auth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2514600"/>
            <a:ext cx="1425600" cy="633240"/>
          </a:xfrm>
          <a:prstGeom prst="wedgeRectCallout">
            <a:avLst>
              <a:gd name="adj1" fmla="val -117259"/>
              <a:gd name="adj2" fmla="val 16027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690040" y="400860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18160" y="4330800"/>
            <a:ext cx="1959120" cy="633240"/>
          </a:xfrm>
          <a:prstGeom prst="wedgeRectCallout">
            <a:avLst>
              <a:gd name="adj1" fmla="val 59560"/>
              <a:gd name="adj2" fmla="val -9937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455400"/>
            <a:ext cx="8734320" cy="70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O Acquisition Lifecyc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04000" y="610236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843280" y="400536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3080" y="400860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6120" y="1484280"/>
            <a:ext cx="2522520" cy="609480"/>
          </a:xfrm>
          <a:prstGeom prst="wedgeRectCallout">
            <a:avLst>
              <a:gd name="adj1" fmla="val -69004"/>
              <a:gd name="adj2" fmla="val 3710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litar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34640" y="5359320"/>
            <a:ext cx="8612280" cy="801000"/>
            <a:chOff x="134640" y="5359320"/>
            <a:chExt cx="8612280" cy="801000"/>
          </a:xfrm>
        </p:grpSpPr>
        <p:grpSp>
          <p:nvGrpSpPr>
            <p:cNvPr id="179" name=""/>
            <p:cNvGrpSpPr/>
            <p:nvPr/>
          </p:nvGrpSpPr>
          <p:grpSpPr>
            <a:xfrm>
              <a:off x="282600" y="5359320"/>
              <a:ext cx="8292960" cy="336600"/>
              <a:chOff x="282600" y="5359320"/>
              <a:chExt cx="8292960" cy="336600"/>
            </a:xfrm>
          </p:grpSpPr>
          <p:sp>
            <p:nvSpPr>
              <p:cNvPr id="180" name=""/>
              <p:cNvSpPr/>
              <p:nvPr/>
            </p:nvSpPr>
            <p:spPr>
              <a:xfrm>
                <a:off x="282600" y="5375160"/>
                <a:ext cx="8292960" cy="304920"/>
              </a:xfrm>
              <a:prstGeom prst="rect">
                <a:avLst/>
              </a:prstGeom>
              <a:gradFill rotWithShape="0">
                <a:gsLst>
                  <a:gs pos="0">
                    <a:srgbClr val="ff00ff"/>
                  </a:gs>
                  <a:gs pos="50000">
                    <a:srgbClr val="ffffff"/>
                  </a:gs>
                  <a:gs pos="100000">
                    <a:srgbClr val="ff00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335480" y="535932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134640" y="5523120"/>
              <a:ext cx="8612280" cy="637200"/>
              <a:chOff x="134640" y="5523120"/>
              <a:chExt cx="8612280" cy="63720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304560" y="5523120"/>
                <a:ext cx="8254800" cy="330120"/>
                <a:chOff x="304560" y="5523120"/>
                <a:chExt cx="8254800" cy="330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0456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828600" y="5523120"/>
                  <a:ext cx="12960" cy="330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38000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55936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02092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48248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184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20064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134640" y="5824440"/>
                <a:ext cx="8612280" cy="335880"/>
                <a:chOff x="134640" y="5824440"/>
                <a:chExt cx="8612280" cy="3358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34640" y="5824440"/>
                  <a:ext cx="2977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25676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43792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78728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95584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60612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14960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833040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1" name=""/>
          <p:cNvSpPr/>
          <p:nvPr/>
        </p:nvSpPr>
        <p:spPr>
          <a:xfrm>
            <a:off x="1711440" y="2892600"/>
            <a:ext cx="2311200" cy="633240"/>
          </a:xfrm>
          <a:prstGeom prst="wedgeRectCallout">
            <a:avLst>
              <a:gd name="adj1" fmla="val -754"/>
              <a:gd name="adj2" fmla="val 12969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litar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790120" cy="70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O Programming Sta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1341360"/>
            <a:ext cx="3384720" cy="489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21280" y="1262160"/>
            <a:ext cx="389304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pability Packages (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veloped by S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bmitted to NATO H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/IMS Join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arallel Endor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C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ps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RB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igibility/Affor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ost 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pproval by NAC/D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04000" y="610236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643280" y="396252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54440" y="400860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3809880"/>
            <a:ext cx="0" cy="165600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3080" y="400860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34640" y="5359320"/>
            <a:ext cx="8612280" cy="801000"/>
            <a:chOff x="134640" y="5359320"/>
            <a:chExt cx="8612280" cy="801000"/>
          </a:xfrm>
        </p:grpSpPr>
        <p:grpSp>
          <p:nvGrpSpPr>
            <p:cNvPr id="211" name=""/>
            <p:cNvGrpSpPr/>
            <p:nvPr/>
          </p:nvGrpSpPr>
          <p:grpSpPr>
            <a:xfrm>
              <a:off x="282600" y="5359320"/>
              <a:ext cx="8292960" cy="336600"/>
              <a:chOff x="282600" y="5359320"/>
              <a:chExt cx="8292960" cy="336600"/>
            </a:xfrm>
          </p:grpSpPr>
          <p:sp>
            <p:nvSpPr>
              <p:cNvPr id="212" name=""/>
              <p:cNvSpPr/>
              <p:nvPr/>
            </p:nvSpPr>
            <p:spPr>
              <a:xfrm>
                <a:off x="282600" y="5375160"/>
                <a:ext cx="8292960" cy="304920"/>
              </a:xfrm>
              <a:prstGeom prst="rect">
                <a:avLst/>
              </a:prstGeom>
              <a:gradFill rotWithShape="0">
                <a:gsLst>
                  <a:gs pos="0">
                    <a:srgbClr val="ff00ff"/>
                  </a:gs>
                  <a:gs pos="50000">
                    <a:srgbClr val="ffffff"/>
                  </a:gs>
                  <a:gs pos="100000">
                    <a:srgbClr val="ff00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335480" y="535932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134640" y="5523120"/>
              <a:ext cx="8612280" cy="637200"/>
              <a:chOff x="134640" y="5523120"/>
              <a:chExt cx="8612280" cy="6372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304560" y="5523120"/>
                <a:ext cx="8254800" cy="330120"/>
                <a:chOff x="304560" y="5523120"/>
                <a:chExt cx="8254800" cy="3301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0456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28600" y="5523120"/>
                  <a:ext cx="12960" cy="330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38000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55936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02092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48248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66184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200640" y="5560920"/>
                  <a:ext cx="0" cy="292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134640" y="5824440"/>
                <a:ext cx="8612280" cy="335880"/>
                <a:chOff x="134640" y="5824440"/>
                <a:chExt cx="8612280" cy="3358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134640" y="5824440"/>
                  <a:ext cx="2977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25676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43792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78728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5584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60612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14960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330400" y="5824440"/>
                  <a:ext cx="416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ff3300"/>
                      </a:solidFill>
                      <a:latin typeface="Arial"/>
                    </a:rPr>
                    <a:t>+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1711440" y="2892600"/>
            <a:ext cx="2311200" cy="633240"/>
          </a:xfrm>
          <a:prstGeom prst="wedgeRectCallout">
            <a:avLst>
              <a:gd name="adj1" fmla="val -754"/>
              <a:gd name="adj2" fmla="val 12969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litar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2209680"/>
            <a:ext cx="2522520" cy="452520"/>
          </a:xfrm>
          <a:prstGeom prst="wedgeRectCallout">
            <a:avLst>
              <a:gd name="adj1" fmla="val 8337"/>
              <a:gd name="adj2" fmla="val 34579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Auth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2514600"/>
            <a:ext cx="1425600" cy="633240"/>
          </a:xfrm>
          <a:prstGeom prst="wedgeRectCallout">
            <a:avLst>
              <a:gd name="adj1" fmla="val -117259"/>
              <a:gd name="adj2" fmla="val 16027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690040" y="4008600"/>
            <a:ext cx="0" cy="1655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18160" y="4330800"/>
            <a:ext cx="1959120" cy="633240"/>
          </a:xfrm>
          <a:prstGeom prst="wedgeRectCallout">
            <a:avLst>
              <a:gd name="adj1" fmla="val 59560"/>
              <a:gd name="adj2" fmla="val -9937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455400"/>
            <a:ext cx="8734320" cy="7095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O Implementation Initi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16360" y="1600200"/>
            <a:ext cx="3168360" cy="4537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04000" y="610236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16120" y="1484280"/>
            <a:ext cx="2522520" cy="609480"/>
          </a:xfrm>
          <a:prstGeom prst="wedgeRectCallout">
            <a:avLst>
              <a:gd name="adj1" fmla="val -69004"/>
              <a:gd name="adj2" fmla="val 3710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litar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" y="380880"/>
            <a:ext cx="86868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ATO Acquisition Life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41400" y="5732640"/>
            <a:ext cx="8067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09600" y="5761080"/>
            <a:ext cx="99396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Concep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Ph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08200" y="5761080"/>
            <a:ext cx="115560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Defin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Ph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75200" y="5761080"/>
            <a:ext cx="14540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Procur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Ph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61440" y="5761080"/>
            <a:ext cx="124776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Us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Ph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-403200" y="1668600"/>
            <a:ext cx="1398600" cy="36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NATO </a:t>
            </a:r>
            <a:r>
              <a:rPr b="1" lang="en-GB" sz="1300" spc="-1" strike="noStrike">
                <a:solidFill>
                  <a:srgbClr val="000066"/>
                </a:solidFill>
                <a:latin typeface="Times New Roman"/>
              </a:rPr>
              <a:t>Committe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SC/Us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NC3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NAC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NAM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3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500" spc="-1" strike="noStrike">
                <a:solidFill>
                  <a:srgbClr val="000066"/>
                </a:solidFill>
                <a:latin typeface="Times New Roman"/>
              </a:rPr>
              <a:t>NC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46240" y="1668600"/>
            <a:ext cx="0" cy="42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06600" y="5732640"/>
            <a:ext cx="0" cy="290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98800" y="5732640"/>
            <a:ext cx="0" cy="290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75600" y="5732640"/>
            <a:ext cx="1440" cy="290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4000" y="1852560"/>
            <a:ext cx="36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94000" y="237348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011240" y="1706760"/>
            <a:ext cx="1510560" cy="3823920"/>
            <a:chOff x="1011240" y="1706760"/>
            <a:chExt cx="1510560" cy="3823920"/>
          </a:xfrm>
        </p:grpSpPr>
        <p:grpSp>
          <p:nvGrpSpPr>
            <p:cNvPr id="256" name=""/>
            <p:cNvGrpSpPr/>
            <p:nvPr/>
          </p:nvGrpSpPr>
          <p:grpSpPr>
            <a:xfrm>
              <a:off x="1015200" y="3662640"/>
              <a:ext cx="1250640" cy="1291320"/>
              <a:chOff x="1015200" y="3662640"/>
              <a:chExt cx="1250640" cy="1291320"/>
            </a:xfrm>
          </p:grpSpPr>
          <p:sp>
            <p:nvSpPr>
              <p:cNvPr id="257" name=""/>
              <p:cNvSpPr/>
              <p:nvPr/>
            </p:nvSpPr>
            <p:spPr>
              <a:xfrm>
                <a:off x="1015200" y="3662640"/>
                <a:ext cx="1162800" cy="1137960"/>
              </a:xfrm>
              <a:custGeom>
                <a:avLst/>
                <a:gdLst/>
                <a:ahLst/>
                <a:rect l="l" t="t" r="r" b="b"/>
                <a:pathLst>
                  <a:path w="864" h="864">
                    <a:moveTo>
                      <a:pt x="0" y="0"/>
                    </a:moveTo>
                    <a:lnTo>
                      <a:pt x="864" y="0"/>
                    </a:lnTo>
                    <a:lnTo>
                      <a:pt x="864" y="864"/>
                    </a:lnTo>
                    <a:lnTo>
                      <a:pt x="144" y="864"/>
                    </a:lnTo>
                    <a:lnTo>
                      <a:pt x="144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600" rIns="75600" tIns="37800" bIns="37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107360" y="3690000"/>
                <a:ext cx="1158480" cy="12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960" rIns="75960" tIns="37800" bIns="37800" anchor="ctr">
                <a:spAutoFit/>
              </a:bodyPr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Requirement</a:t>
                </a:r>
                <a:br>
                  <a:rPr sz="1300"/>
                </a:b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Concep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Feasibilit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Architectur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Analysi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1011240" y="1706760"/>
              <a:ext cx="1510560" cy="3823920"/>
              <a:chOff x="1011240" y="1706760"/>
              <a:chExt cx="1510560" cy="3823920"/>
            </a:xfrm>
          </p:grpSpPr>
          <p:sp>
            <p:nvSpPr>
              <p:cNvPr id="260" name=""/>
              <p:cNvSpPr/>
              <p:nvPr/>
            </p:nvSpPr>
            <p:spPr>
              <a:xfrm rot="16200000">
                <a:off x="457560" y="3466440"/>
                <a:ext cx="3823920" cy="3042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960" rIns="75960" tIns="37800" bIns="37800" anchor="ctr">
                <a:spAutoFit/>
              </a:bodyPr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500" spc="-1" strike="noStrike">
                    <a:solidFill>
                      <a:srgbClr val="000066"/>
                    </a:solidFill>
                    <a:latin typeface="Arial"/>
                  </a:rPr>
                  <a:t>Development of Capability Package (CP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274760" y="2019240"/>
                <a:ext cx="847440" cy="471960"/>
              </a:xfrm>
              <a:prstGeom prst="rect">
                <a:avLst/>
              </a:prstGeom>
              <a:solidFill>
                <a:srgbClr val="ddddd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960" rIns="75960" tIns="37800" bIns="37800" anchor="ctr">
                <a:spAutoFit/>
              </a:bodyPr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C3</a:t>
                </a:r>
                <a:br>
                  <a:rPr sz="1300"/>
                </a:b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Plann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011240" y="3014640"/>
                <a:ext cx="1158480" cy="273960"/>
              </a:xfrm>
              <a:prstGeom prst="rect">
                <a:avLst/>
              </a:prstGeom>
              <a:solidFill>
                <a:srgbClr val="ddddd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5960" rIns="75960" tIns="37800" bIns="37800" anchor="ctr">
                <a:spAutoFit/>
              </a:bodyPr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Requiremen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2552760" y="1549440"/>
            <a:ext cx="1352160" cy="4124160"/>
            <a:chOff x="2552760" y="1549440"/>
            <a:chExt cx="1352160" cy="4124160"/>
          </a:xfrm>
        </p:grpSpPr>
        <p:sp>
          <p:nvSpPr>
            <p:cNvPr id="264" name=""/>
            <p:cNvSpPr/>
            <p:nvPr/>
          </p:nvSpPr>
          <p:spPr>
            <a:xfrm rot="16200000">
              <a:off x="1716840" y="3485520"/>
              <a:ext cx="4124160" cy="251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500" spc="-1" strike="noStrike">
                  <a:solidFill>
                    <a:srgbClr val="000066"/>
                  </a:solidFill>
                  <a:latin typeface="Arial"/>
                </a:rPr>
                <a:t>Approval of Capability Packa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52760" y="1838880"/>
              <a:ext cx="1017000" cy="7956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Policy &amp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Architectural</a:t>
              </a:r>
              <a:br>
                <a:rPr sz="1300"/>
              </a:b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Guida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65720" y="2743200"/>
              <a:ext cx="1017000" cy="7956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Operational</a:t>
              </a:r>
              <a:br>
                <a:rPr sz="1300"/>
              </a:b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Guida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65720" y="3647520"/>
              <a:ext cx="1017000" cy="795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Architectural</a:t>
              </a:r>
              <a:br>
                <a:rPr sz="1300"/>
              </a:b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&amp; technical</a:t>
              </a:r>
              <a:br>
                <a:rPr sz="1300"/>
              </a:b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desig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962520" y="1447560"/>
            <a:ext cx="1096920" cy="4136760"/>
            <a:chOff x="3962520" y="1447560"/>
            <a:chExt cx="1096920" cy="4136760"/>
          </a:xfrm>
        </p:grpSpPr>
        <p:sp>
          <p:nvSpPr>
            <p:cNvPr id="269" name=""/>
            <p:cNvSpPr/>
            <p:nvPr/>
          </p:nvSpPr>
          <p:spPr>
            <a:xfrm rot="16200000">
              <a:off x="2856960" y="3381840"/>
              <a:ext cx="4136760" cy="2682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500" spc="-1" strike="noStrike">
                  <a:solidFill>
                    <a:srgbClr val="000066"/>
                  </a:solidFill>
                  <a:latin typeface="Arial"/>
                </a:rPr>
                <a:t>Fund Authoris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14800" y="3552840"/>
              <a:ext cx="619200" cy="79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TBCE</a:t>
              </a:r>
              <a:br>
                <a:rPr sz="1300"/>
              </a:b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&amp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PI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62520" y="2325600"/>
              <a:ext cx="784080" cy="798480"/>
            </a:xfrm>
            <a:prstGeom prst="rect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Fund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pprov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95800" y="1523880"/>
            <a:ext cx="1106280" cy="4137120"/>
            <a:chOff x="5095800" y="1523880"/>
            <a:chExt cx="1106280" cy="4137120"/>
          </a:xfrm>
        </p:grpSpPr>
        <p:sp>
          <p:nvSpPr>
            <p:cNvPr id="273" name=""/>
            <p:cNvSpPr/>
            <p:nvPr/>
          </p:nvSpPr>
          <p:spPr>
            <a:xfrm rot="16200000">
              <a:off x="3999240" y="3458160"/>
              <a:ext cx="4137120" cy="268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500" spc="-1" strike="noStrike">
                  <a:solidFill>
                    <a:srgbClr val="000066"/>
                  </a:solidFill>
                  <a:latin typeface="Arial"/>
                </a:rPr>
                <a:t>Contract Awar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95800" y="3628440"/>
              <a:ext cx="764640" cy="79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IFB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95800" y="4499280"/>
              <a:ext cx="764640" cy="79848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Support</a:t>
              </a:r>
              <a:br>
                <a:rPr sz="1300"/>
              </a:b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&amp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co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95800" y="2757600"/>
              <a:ext cx="764640" cy="79848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Co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210360" y="1523880"/>
            <a:ext cx="1212480" cy="4137120"/>
            <a:chOff x="6210360" y="1523880"/>
            <a:chExt cx="1212480" cy="4137120"/>
          </a:xfrm>
        </p:grpSpPr>
        <p:sp>
          <p:nvSpPr>
            <p:cNvPr id="278" name=""/>
            <p:cNvSpPr/>
            <p:nvPr/>
          </p:nvSpPr>
          <p:spPr>
            <a:xfrm>
              <a:off x="6226920" y="4435920"/>
              <a:ext cx="873360" cy="870840"/>
            </a:xfrm>
            <a:prstGeom prst="flowChartManualInpu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6210360" y="1523880"/>
              <a:ext cx="1212480" cy="4137120"/>
              <a:chOff x="6210360" y="1523880"/>
              <a:chExt cx="1212480" cy="413712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6210360" y="1523880"/>
                <a:ext cx="1212480" cy="4137120"/>
                <a:chOff x="6210360" y="1523880"/>
                <a:chExt cx="1212480" cy="4137120"/>
              </a:xfrm>
            </p:grpSpPr>
            <p:sp>
              <p:nvSpPr>
                <p:cNvPr id="281" name=""/>
                <p:cNvSpPr/>
                <p:nvPr/>
              </p:nvSpPr>
              <p:spPr>
                <a:xfrm rot="16200000">
                  <a:off x="5219640" y="3457800"/>
                  <a:ext cx="4137120" cy="26892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560" rIns="79560" tIns="39600" bIns="39600" anchor="ctr">
                  <a:noAutofit/>
                </a:bodyPr>
                <a:p>
                  <a:pPr algn="ctr"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lang="en-US" sz="1500" spc="-1" strike="noStrike">
                      <a:solidFill>
                        <a:srgbClr val="000066"/>
                      </a:solidFill>
                      <a:latin typeface="Arial"/>
                    </a:rPr>
                    <a:t>IOC / FOC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0800000">
                  <a:off x="6226920" y="3628080"/>
                  <a:ext cx="873360" cy="870840"/>
                </a:xfrm>
                <a:prstGeom prst="flowChartManualInpu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0" rIns="792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210360" y="4642920"/>
                  <a:ext cx="932760" cy="65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560" rIns="79560" tIns="39600" bIns="39600" anchor="ctr">
                  <a:noAutofit/>
                </a:bodyPr>
                <a:p>
                  <a:pPr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lang="en-US" sz="1200" spc="-1" strike="noStrike">
                      <a:solidFill>
                        <a:srgbClr val="000066"/>
                      </a:solidFill>
                      <a:latin typeface="Arial"/>
                    </a:rPr>
                    <a:t>Implement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lang="en-US" sz="1200" spc="-1" strike="noStrike">
                      <a:solidFill>
                        <a:srgbClr val="000066"/>
                      </a:solidFill>
                      <a:latin typeface="Arial"/>
                    </a:rPr>
                    <a:t>comple-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66"/>
                      </a:solidFill>
                      <a:latin typeface="Arial"/>
                    </a:rPr>
                    <a:t>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4" name=""/>
              <p:cNvSpPr/>
              <p:nvPr/>
            </p:nvSpPr>
            <p:spPr>
              <a:xfrm>
                <a:off x="6224040" y="3773880"/>
                <a:ext cx="90864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560" rIns="79560" tIns="39600" bIns="39600" anchor="ctr">
                <a:noAutofit/>
              </a:bodyPr>
              <a:p>
                <a:pPr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Imple-</a:t>
                </a:r>
                <a:br>
                  <a:rPr sz="1300"/>
                </a:br>
                <a:r>
                  <a:rPr b="1" lang="en-US" sz="1300" spc="-1" strike="noStrike">
                    <a:solidFill>
                      <a:srgbClr val="000066"/>
                    </a:solidFill>
                    <a:latin typeface="Arial"/>
                  </a:rPr>
                  <a:t>menta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7462800" y="1523880"/>
            <a:ext cx="1546200" cy="4137120"/>
            <a:chOff x="7462800" y="1523880"/>
            <a:chExt cx="1546200" cy="4137120"/>
          </a:xfrm>
        </p:grpSpPr>
        <p:sp>
          <p:nvSpPr>
            <p:cNvPr id="286" name=""/>
            <p:cNvSpPr/>
            <p:nvPr/>
          </p:nvSpPr>
          <p:spPr>
            <a:xfrm rot="5400000">
              <a:off x="7980120" y="4647960"/>
              <a:ext cx="871560" cy="512640"/>
            </a:xfrm>
            <a:prstGeom prst="flowChartDocumen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P3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7462800" y="1523880"/>
              <a:ext cx="1546200" cy="4137120"/>
              <a:chOff x="7462800" y="1523880"/>
              <a:chExt cx="1546200" cy="4137120"/>
            </a:xfrm>
          </p:grpSpPr>
          <p:sp>
            <p:nvSpPr>
              <p:cNvPr id="288" name=""/>
              <p:cNvSpPr/>
              <p:nvPr/>
            </p:nvSpPr>
            <p:spPr>
              <a:xfrm rot="16200000">
                <a:off x="6806160" y="3458160"/>
                <a:ext cx="4137120" cy="2682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360" rIns="72360" tIns="36360" bIns="36360" anchor="ctr">
                <a:noAutofit/>
              </a:bodyPr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500" spc="-1" strike="noStrike">
                    <a:solidFill>
                      <a:srgbClr val="000066"/>
                    </a:solidFill>
                    <a:latin typeface="Arial"/>
                  </a:rPr>
                  <a:t>Disposal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7491240" y="2757600"/>
                <a:ext cx="1180800" cy="798480"/>
                <a:chOff x="7491240" y="2757600"/>
                <a:chExt cx="1180800" cy="7984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7491240" y="2757600"/>
                  <a:ext cx="1180800" cy="798480"/>
                  <a:chOff x="7491240" y="2757600"/>
                  <a:chExt cx="1180800" cy="7984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16200000">
                    <a:off x="7429320" y="2819520"/>
                    <a:ext cx="798480" cy="674640"/>
                  </a:xfrm>
                  <a:prstGeom prst="flowChartDocument">
                    <a:avLst/>
                  </a:prstGeom>
                  <a:solidFill>
                    <a:srgbClr val="dddddd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360" rIns="7236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5400000">
                    <a:off x="8019720" y="2903760"/>
                    <a:ext cx="798480" cy="506160"/>
                  </a:xfrm>
                  <a:prstGeom prst="flowChartDocument">
                    <a:avLst/>
                  </a:prstGeom>
                  <a:solidFill>
                    <a:srgbClr val="dddddd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360" rIns="7236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16200000">
                  <a:off x="7357320" y="3015000"/>
                  <a:ext cx="755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360" rIns="72360" tIns="36360" bIns="36360" anchor="ctr">
                  <a:noAutofit/>
                </a:bodyPr>
                <a:p>
                  <a:pPr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lang="en-US" sz="1500" spc="-1" strike="noStrike">
                      <a:solidFill>
                        <a:srgbClr val="000066"/>
                      </a:solidFill>
                      <a:latin typeface="Arial"/>
                    </a:rPr>
                    <a:t>Usage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16200000">
                  <a:off x="8128080" y="3009600"/>
                  <a:ext cx="70020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360" rIns="72360" tIns="36360" bIns="36360" anchor="ctr">
                  <a:no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lang="en-US" sz="1300" spc="-1" strike="noStrike">
                      <a:solidFill>
                        <a:srgbClr val="000066"/>
                      </a:solidFill>
                      <a:latin typeface="Arial"/>
                    </a:rPr>
                    <a:t>End of</a:t>
                  </a:r>
                  <a:br>
                    <a:rPr sz="1300"/>
                  </a:br>
                  <a:r>
                    <a:rPr b="1" lang="en-US" sz="1300" spc="-1" strike="noStrike">
                      <a:solidFill>
                        <a:srgbClr val="000066"/>
                      </a:solidFill>
                      <a:latin typeface="Arial"/>
                    </a:rPr>
                    <a:t>cycle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7477200" y="4421160"/>
                <a:ext cx="682560" cy="954000"/>
                <a:chOff x="7477200" y="4421160"/>
                <a:chExt cx="682560" cy="954000"/>
              </a:xfrm>
            </p:grpSpPr>
            <p:sp>
              <p:nvSpPr>
                <p:cNvPr id="296" name=""/>
                <p:cNvSpPr/>
                <p:nvPr/>
              </p:nvSpPr>
              <p:spPr>
                <a:xfrm rot="16200000">
                  <a:off x="7382520" y="4562640"/>
                  <a:ext cx="871560" cy="682560"/>
                </a:xfrm>
                <a:prstGeom prst="flowChartDocument">
                  <a:avLst/>
                </a:prstGeom>
                <a:solidFill>
                  <a:srgbClr val="dddddd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360" rIns="7236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16200000">
                  <a:off x="7282800" y="4669560"/>
                  <a:ext cx="954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360" rIns="72360" tIns="36360" bIns="36360" anchor="ctr">
                  <a:noAutofit/>
                </a:bodyPr>
                <a:p>
                  <a:pPr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lang="en-US" sz="1300" spc="-1" strike="noStrike">
                      <a:solidFill>
                        <a:srgbClr val="000066"/>
                      </a:solidFill>
                      <a:latin typeface="Arial"/>
                    </a:rPr>
                    <a:t>In service</a:t>
                  </a:r>
                  <a:br>
                    <a:rPr sz="1300"/>
                  </a:br>
                  <a:r>
                    <a:rPr b="1" lang="en-US" sz="1300" spc="-1" strike="noStrike">
                      <a:solidFill>
                        <a:srgbClr val="000066"/>
                      </a:solidFill>
                      <a:latin typeface="Arial"/>
                    </a:rPr>
                    <a:t>support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7462800" y="3846600"/>
                <a:ext cx="1209600" cy="290520"/>
              </a:xfrm>
              <a:prstGeom prst="rect">
                <a:avLst/>
              </a:prstGeom>
              <a:solidFill>
                <a:srgbClr val="00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360" rIns="72360" tIns="36360" bIns="36360" anchor="ctr">
                <a:noAutofit/>
              </a:bodyPr>
              <a:p>
                <a:pPr algn="ctr">
                  <a:tabLst>
                    <a:tab algn="l" pos="0"/>
                    <a:tab algn="l" pos="873000"/>
                    <a:tab algn="l" pos="1746360"/>
                    <a:tab algn="l" pos="2619360"/>
                    <a:tab algn="l" pos="3492360"/>
                    <a:tab algn="l" pos="4365720"/>
                    <a:tab algn="l" pos="5238720"/>
                    <a:tab algn="l" pos="6111720"/>
                    <a:tab algn="l" pos="6985080"/>
                    <a:tab algn="l" pos="7858080"/>
                    <a:tab algn="l" pos="8731080"/>
                    <a:tab algn="l" pos="9604440"/>
                    <a:tab algn="l" pos="1047744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Suppor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24:34Z</dcterms:created>
  <dc:creator>My PC</dc:creator>
  <dc:description/>
  <dc:language>en-US</dc:language>
  <cp:lastModifiedBy>My PC</cp:lastModifiedBy>
  <dcterms:modified xsi:type="dcterms:W3CDTF">2009-01-29T21:25:29Z</dcterms:modified>
  <cp:revision>22</cp:revision>
  <dc:subject/>
  <dc:title>Slide 1</dc:title>
</cp:coreProperties>
</file>